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75744"/>
        <c:axId val="90910306"/>
      </c:barChart>
      <c:catAx>
        <c:axId val="102757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10306"/>
        <c:crosses val="autoZero"/>
        <c:auto val="1"/>
        <c:lblAlgn val="ctr"/>
        <c:lblOffset val="100"/>
        <c:noMultiLvlLbl val="0"/>
      </c:catAx>
      <c:valAx>
        <c:axId val="90910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757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C4FE-1531-4C55-B3D0-A4D918AE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D3F-0CA5-4779-B19F-E914A25B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9B2-AABA-4907-8402-868C1FA6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234C-C6A4-4B6B-9E6B-A6F7F5C0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6C7A-77E7-41D1-9780-2C5C15CE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273-B550-4B9E-B0E4-7965B866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7C3-6158-4011-9161-F40F89D2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3D0-F549-41AA-80B6-80574BE8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D02F-FD68-4901-8B31-3C8E9705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A02-2AE6-4F04-BC61-7102FADE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A91-7E46-44D0-BCEB-09198DE4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096-40A1-4F2B-B5BF-B3BD62FB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78166-903D-4EA1-B01A-AC156FB85D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